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A44-8537-465F-A5F3-AB8A19C3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1C4-0C84-404C-A662-3C867D23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E4562-A6AC-4DB0-A021-D6AB0CF9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D7F07-76AE-464D-B2F9-E9C338C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AD24F-BD04-4C26-ABD0-EC2B5B1C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10E66-1F3E-4DFE-B234-64260E3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4DCC7-25BE-4918-8C44-64C94CA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7C67A-A58E-4FB6-B75B-09F8550A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CFE7B-FE0C-4D14-A0DE-3A94A190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3FA97-F8CE-4E3E-9763-5DDDF563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BD53A-52F1-4918-ACF6-49860F4B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F7D98-47E1-4468-A2A5-ECF0A8DD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EB5-0F8E-42DB-B9AE-8E270BB5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2586D-0EAD-4170-A25A-B067957F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D8018-0FC7-4F64-AAE9-2138BF0F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B935B-9C98-4D85-A5E1-23DA8E51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58966-B331-45DA-AC4A-4632FF10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6231D-C892-428F-9EFD-D9D22251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DFD2B-F8EB-4DF2-AEB4-17428A77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6721E-5D3C-469A-B8E2-E1AB6AE2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DD18A-820A-4764-AB23-2026A89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69A8A-739E-47B5-87A1-B463B796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F5667-DC76-4B84-8AEF-1078798F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DD0-8664-4D65-B992-1562F666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83257-C95C-4545-8B41-0888C2D8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9EF33-8226-42EC-B252-9B11590A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61E53-EB71-4BA8-841C-8B0733F4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36494-1D66-4529-8A9C-FC196819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626BF-B081-43C7-A562-2CC1F41E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2BC72-46D6-4122-AAAC-3D35932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BA077-EB03-4014-ABDD-D52DE80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68FB4-460E-42FF-A9AB-75C81828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1EA33-48A3-49A3-84AA-6FEEEE6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0EA4C-FA31-4997-AFB1-E35DB632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9440-ECA9-479E-BC62-5E526BE4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22F27-BE67-4031-B740-0B93529F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12139-7A0A-4CFB-9AAA-CE1ADD7C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BA5B2-9EA0-4757-8272-D0E5457A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14494-0026-47ED-A051-6D35D856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AE6C3-E422-41EA-A076-C17C439E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92B1E-0169-494C-B440-0E1FE669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CF104-E21D-47E2-8565-AFE38ACF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0C643-869C-480F-B722-3ED0A555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F0240-63FE-4FE6-9756-D8337D62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63B0C-0463-4847-9C3D-036BC0FA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A349-F232-49F7-91A4-E427592F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0E6F1-DFCB-4BA0-B7DC-92EB072F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55FC6-4D6D-4FAA-8C0B-B72DAA6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CBC80-F4A5-4F44-9074-F1EAC7B7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0CE59-3819-4763-BA63-B0A1AB3B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98B74-C706-4339-A9CD-6C371792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AEFD5-0675-443A-96AD-BC4E97D9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8C4C7-823F-4B75-AA25-06641EC9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1423E-5F0C-4D77-8FA5-093DAB45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46E38-8A2E-4180-A747-CF23114F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622DE-CE26-41DC-A001-C24FD8B2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8ADA-BC04-4AA1-BB35-6ABE4635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18B0B-A773-4F0E-970C-8966D5F4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70862-015C-4574-9987-AD6CA3E3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965DF-2575-4013-8537-342AA02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A80F9-F138-4FEF-850C-9589CFBF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B0007-62C1-429A-9462-4327506F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C0187-A3C6-4E68-BED8-9A36934A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6AD39-F99A-4EB8-8591-361B39BF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F6B9E-4341-451A-8D8A-6015AB41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DC14A-690F-4360-8401-617DD492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1A705-ED72-4EA9-B799-7AE2599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64C2-4A1E-44BC-9DA4-4B6BCF79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184B1-135A-4138-8E6D-553C6B0B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8C22C-4DB8-4A06-AB8F-7AB04B46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30288-02EE-4596-9CAE-A3E725EA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8AD88-D29A-45CC-B412-1F60E29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CAE7D-42E2-4567-86B0-29DA6E7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4ADEE-3E9E-4288-9542-D1F56FE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68C19-E225-4201-A129-C3DAC0F0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0212C-C752-4617-9E74-37AF7AA4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9D6A7-4694-40E9-A674-5A827D8C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29F6B-1F4F-42DC-AAEF-26F02E54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3955-30F5-4C58-8BE9-AC905EF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CAEF8-BB8C-4509-94A0-8B476053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83873-FEB3-4172-8567-CCB3F4B8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6EB77-EC4B-41D7-84CA-E46461DF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3E446-A548-4AD1-9F6E-DED0812F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55B99-6BC8-4EBB-AA34-8F0AAF0D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D0A4A-210C-4076-903C-F72904F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F2FE2-8DB9-420C-80F1-6C9C989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4A928-121E-42FD-AF86-0076D409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D882F-D1A8-42F7-B2C1-A738B284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EC610-33DF-46A7-9E45-89C3082D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C5D2-F299-40B6-A8D3-2F7F03C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D6F91-3D28-41F8-A063-1098C329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418CC-E417-4A55-85BF-7C6E567A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71612-38D2-4957-BBF7-F08FBF9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09B6C-A3BE-4B62-B35F-9BFFC667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0F812-E429-4A86-A4AB-DBEA7A1A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B434E-F225-420B-9CE3-2E869AD5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FB076-ABFC-43AD-980D-3A80B3C1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0CDB0-0D95-415F-9BAD-81E119B9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15BCD-AD6E-482B-A859-DD59628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C35B9-7146-4C0B-9225-42205DF4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8108-A343-4B5A-8EDB-ED22B4F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D8A062-0C17-41BE-84D7-F45483D9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4CB54-E5D6-4288-BF1E-2F4B66A4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8A39E-8C09-4D3B-A121-C33F07EA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33BF1-27C4-4645-A241-C694EB68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07CA6-BDC0-49E9-B7DB-CBC5C38A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BB06D-A0C4-4A7A-ADB5-F8BD15C8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A9EB0-D4B3-4AF7-B453-5829F302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5A0CF-DC6D-4B91-AD1F-3354515F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EAD302-3D98-402A-A209-7831C4FA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4FC73-183E-42C3-B919-575ADD73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12B-1CD4-454C-80AA-5E7099D4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4C4A-038C-4CFB-AEAC-C17F5C24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DAB66-B906-49EE-8B3D-EBBABC3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AAAF2-6DB0-4F9F-A094-DF7EC62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60B23-EFD0-4D2F-A125-0D105DBC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917F07-12B7-4A09-9E02-D7F19828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C55BB-66FE-4C64-9B7D-1665DAE2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B1366-0071-4E0A-8159-762CA3FA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69D66-9307-4C60-BD46-2E7E0FFD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4D6E9-71E0-49A6-A1DA-D46247AD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1EE76-8B68-4C7F-B78F-0BCE0E53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48A1C-693A-42CC-9D3D-13F3353A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DD57-8B2E-4266-865C-FD105ABF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5F2C4-FCD6-4D32-8CE5-8F9964C2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119AF-ADDB-4958-87C7-C4BD432F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70E5E-53D1-4652-B7D7-B0619A9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19C65-8895-4EFA-9C60-61425945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4EAA8-FC13-467E-AA78-0D70AAFD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A0B80-83F6-4B1B-8DF9-BEB87BEB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E43D6-97E7-41E5-91AA-58BC1BDF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6FBDD0-FAF1-41B9-BE93-05962D7E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E3307-386F-45C5-890B-7190ACAE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DF155-87A2-4758-A4BE-9AAA063F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DCDA-8CF0-4D9F-B954-8BE80D62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CF15A-30E0-4C39-8D3C-D86D5B1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84F98-BC8D-4166-A647-2E2F34C0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30599-CCB8-4CC4-B370-E89813F5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7280C-D8FE-4DC3-AFA6-DD386CC9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44E59B-B4BE-4E96-9703-5F016BA3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43FF5-8DB3-47AB-9D5F-FD274FB6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3A3FF-D3EB-4DF1-A9C4-44599AA8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5DC38-C372-4344-8018-406F53C5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13B6C-5029-4F84-8031-13C3EC87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0D9E6-C19E-485A-B8AC-6CBCE491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B137-3348-47A9-92A8-68307874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6652A-1D5F-44A0-BAB5-E149E36F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CE5F0-98E1-473F-9BE6-14D407E2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3320E-E956-45E1-B3FB-1D4B8AB2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0CC8E-C55A-4D21-9210-9808D9D6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8190B-8277-4684-BBF1-CBC3BE57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EC457A-6F48-473B-A57D-6B701D0A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D3895-451E-49F0-BFAC-A452D66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0690B-6D8A-4E85-BB61-C190197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FF6D2C-FB53-4B3C-99B5-2092617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246B09-A4A1-494C-9B93-CFC7B5B3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449B-07D7-4533-BA54-79F5E370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548A8-0FA2-4875-AB7E-BC762238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A5CF3-B306-4CF2-B118-232C9E67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90699-449F-48AF-916B-2BFAE62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D1892-CA6D-4E11-8A64-35955B6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2B9F1-5596-4BED-9699-F2A7ABB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B9466-149F-47A1-B4CB-0D852B04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C8513-35BA-4FF9-B252-ED75BD75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C3C2E3-BBDF-4789-BE2B-F91812A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13A64-B94D-494C-957D-3D2B5F0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9E170-01CE-4EFE-9F9A-55898A20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0C69-4A63-4AA7-9756-866B06F3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F57D6-B5C5-4ED0-B48F-9EE34D2F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1D8C7-6333-4BA9-A524-FA37E321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54394-F51C-4854-BFBE-255F2CC1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87FC4A-5C6F-4F1F-B09A-0CE95E89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BC3A50-6CA0-481C-9EC4-85C54D17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20697C-8226-4A25-B19F-612DE626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64AF45-5C23-45E5-9508-97ABFA6A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561EB1-1BAF-494E-B962-5B2C2A2E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02CE3E-3681-44FC-A4AB-A026F473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B1278A-C77D-4C6B-9C67-54A2CAA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80BA-9821-4383-B845-F62A82B1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E40CF0-733E-4B70-AE43-30D15832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F6DDA3-543D-4A6E-BBD0-8449D37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6DD008-8E18-4812-81CB-AE122908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433E08-E862-435C-B60B-D7919946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AE4929-CBB2-4160-AEBA-F1D1A7F2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D7DF43-626E-4FA2-B114-B72430B4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D00B33-A699-4BFF-9D8D-1CF2C02C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4E3B0-2176-4CF7-94FD-F1931241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82226E-DD57-4EAB-BF9B-8E1978AB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215F9B-D8B4-4A26-8350-E45F0AD3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39D0-14EB-46BD-A206-5191FCBE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535D75-2A2B-4FF2-8E6B-FD62A69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0A4473-A635-4685-8F66-76728CA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8DC24E-0537-460E-9D42-C00953A9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351FB1-9C7C-4729-84F4-097496F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4015F2-A1A1-4574-8FB7-A82FC40F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5E5CCA-A6AB-402D-AAF9-369F3EDF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2127EB-8433-4B58-9B9C-DE67677F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BE10-E446-40DD-B2E4-153010D5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8F07-D372-46ED-9D20-A99CC5DA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FFF-EB9D-463D-9F7D-726A8CA9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D009-B128-4DE8-ACB4-224E5180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3EFF-2972-4D8A-A73B-6ADCC173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4E6B-D148-44ED-90A3-09C1D58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EB42-429E-4BF1-9CF6-A89AEF9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C59B-8E7A-4DDD-B0C8-FFF7B68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C00B-687E-40A2-8ADC-DB33F49F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E2DF-099F-45E3-B640-8B0A8770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534F-F22A-4F5A-9B82-6D2BC170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19F35-6B3B-4511-A6E5-EA7A79C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BEB5-D809-42C2-8E5D-2451AC3E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145-363F-4394-A343-E2615717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6CF1-C2A7-495F-AA72-866294B5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A214-3906-4383-8FE8-BB9B4BC2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10FD-F4F9-486C-BF6E-BD3D7E92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D6F71-85F8-4D59-829E-41DED662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CC3A5-49E7-4E4C-991F-292ECB69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D105-94ED-45A7-9778-3373E2C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1E679-FEF3-4313-A2C1-815F77EE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D5230-DF80-490A-88F2-B882DB7E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C392-81B7-4BD4-BE42-2FAD1043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C1FFA-44E1-4765-94FB-97345566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4C6-9F3A-4BB1-904A-D2B8AF5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4709D-6640-4DF8-ACC6-11C29347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12110-909C-49B6-849E-67E8E62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07816-13BD-4B26-AEB4-1156EA8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71738-BCCF-487A-AFDE-65D74BE5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7616-C670-4EE1-BCD9-C920BFD8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16719-B243-41DB-8BEC-F9B479DE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E0FA-3A44-4E44-ABB0-44E3FC55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9F85D-13F1-4C4C-9DD0-2668C01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48234-C690-48FB-8EE2-FF7A2123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799B-26BF-4D33-B069-104179C9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B8F-9D00-4A56-9B2B-57473DDE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8DB8-8656-44C4-BECD-C22A3AF8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17457-AE9E-4C51-BF70-6B095A28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68604-4F6F-4BB5-BBF8-CDDE0D37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3EE1A-9E3F-4AE7-A77D-9E06ECE0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B3968-3019-449A-9790-8A721A25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095A9-3B0A-426B-9534-D67C67A8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DC725-917B-47CB-A402-0DA93404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0C9F8-5B42-4270-8F15-C8F87A4E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F2BE3-8F7C-43AD-95CD-5DE7D254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6F66-163A-4D03-8AC1-23A86179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FFC-F32A-4328-84E2-A33FD899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8322-5ECB-464B-ACD2-1184E950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0079-49D0-4C71-A6E0-A392419A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187A-F504-44F6-83BC-2985228D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EA86-492E-44EE-AC9A-209ED33B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C13B3-6874-4B41-8C51-8FF95119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A31D9-5D91-4220-A3EB-CAC51F4A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2861A-CA79-45A6-97CC-CBA120C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C363E-12AF-4FC9-86FC-DA8A7228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D8D57-91C6-4FDA-933A-5047A1BF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6416F-CACC-40B8-A17F-B2BC7D88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A9C-5514-4C35-A1AC-C62D2EC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AA8C6-FBF5-46CA-AB67-E910537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7C465-0FA7-478F-971A-C2DE1AC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5FE51-8E63-4979-9032-83A8B2D0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779E2-B370-4B30-BAB4-F0A18492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F905E-2915-4672-9CF5-5253487E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477C8-505F-4C80-B5A3-40934E5F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0D2CA-9D59-4B67-A814-E2A2AA9D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F7DE8-AEB1-4013-AE84-DECE6A96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9E39-83BF-4CEF-A00B-FB700E84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020C7-BCF9-45FA-8244-59829365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D8F-DF00-4C4F-85AD-AA12E901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DA7E6-5228-4868-92E3-01D9034C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7ECEB-8064-42D5-86C0-A79E1135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B9078-72DB-47B5-95C6-2BC5C10B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B4306-4081-488E-990F-15EECE9A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73FA0-4308-46D3-871A-19F842DC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DAE2-03C4-4E3C-997F-9EB530A3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C8B83-663A-4EBB-B7B9-9F1207FE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F50E4-ACAA-475D-8053-D9B19A7A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CBBD7-0B80-411E-8470-4ABD2673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C3124-189F-45F8-834D-D4E48C9D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E14B-D579-46AC-854D-7064EDCF94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C0E5-ED14-4119-89EE-23522D63F4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0D2F-68E5-4516-BD68-4EAF54E4CA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064E-9A4A-4E63-B118-126337A43A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753-8727-408D-9FD2-39C27527F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21D2-3674-4049-9851-C29B32FA7B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3D0B-D934-4815-B734-FC80E0DED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08AA-CCFF-4074-80EF-FAA7692E5F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39CB-0B6A-4878-8ECE-791AE40FCE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B879-15A3-4BBC-A05F-D955863CA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1547-E138-40D4-8B78-897FE46402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A194-1568-42E7-9CE7-6D809ED9DA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3AA-975A-4EDC-8048-0D202E986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D8B9-709E-42CA-AF04-208141E860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4756-3FDE-4D7E-81AC-1C949134DA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42FE-4FE0-4E7B-9EE1-B8CB62E445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4414-016A-4F84-90BF-EB1AAC0961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7E5-7932-4CFA-BC84-1B5D35391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6FF1-E424-436B-AF37-A447A9AD0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62A0-87EC-4AFF-941A-8AE07BB66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5FA8-BEC3-4759-AAD3-13567E028B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6DD7-D629-4C86-ADD9-084968F400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3A49-0DDB-41E6-9EF8-42612BC815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D07C-2F91-4EBB-A4BC-BF0E36B432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F59C-E54A-4329-A6B7-9B3B8C9383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16B3-3095-496B-9D66-AB561978FB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B409-5B13-45D0-B2C3-CF566D8653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7052-05A5-4E3A-8F6B-16AD93A4EA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9C95-AF11-4AF8-BD0A-322FEE0438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3538-2639-43C1-B824-5C39FD2177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DE64-91E5-4030-8289-49EA5ADAF5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D589-B2A7-4999-940D-08636DC4C3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E86E-C93B-4053-A11B-66B744BD85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D770-2017-4F49-825E-4E1169FB89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3C88-AD47-4E5B-943F-692BEDA6F3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FC44-EBEC-4DE8-A5B2-224281E07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D1E6-8459-45F5-9EEF-C9F0D7F6E1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28C9-EC1C-422F-B1D7-A201933AB9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CAB5-7F85-49B3-91BD-51241FB83B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4D7B-5CAB-4B02-8AE7-2282B16E1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FE1F-A2A8-4723-B7E4-1C05C44C50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FB41-29FC-4B8B-8048-5DD350956E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943280" y="2976480"/>
            <a:ext cx="52578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22120" y="792000"/>
            <a:ext cx="7724880" cy="26085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291960" y="3465360"/>
            <a:ext cx="8266320" cy="30178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539640" y="1268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468360" y="2637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539640" y="3500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539640" y="436572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539640" y="573408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85680" y="1866960"/>
            <a:ext cx="8972640" cy="31240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1332000" y="232416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4932360" y="276552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1979640" y="321300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2050920" y="3684600"/>
            <a:ext cx="129708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2733840" y="4581360"/>
            <a:ext cx="8632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95400" y="2085840"/>
            <a:ext cx="8953200" cy="26863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2771640" y="259380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2050920" y="302580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1258920" y="348156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3059280" y="393372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2556000" y="4384800"/>
            <a:ext cx="792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466560" y="957240"/>
            <a:ext cx="8210880" cy="4943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93636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64800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900000" y="2736720"/>
            <a:ext cx="172728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5580000" y="275580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2268360" y="3654360"/>
            <a:ext cx="273528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7"/>
          <a:stretch/>
        </p:blipFill>
        <p:spPr>
          <a:xfrm>
            <a:off x="2124000" y="454968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8"/>
          <a:stretch/>
        </p:blipFill>
        <p:spPr>
          <a:xfrm>
            <a:off x="3924360" y="454968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9"/>
          <a:stretch/>
        </p:blipFill>
        <p:spPr>
          <a:xfrm>
            <a:off x="826920" y="5454720"/>
            <a:ext cx="3168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9:0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